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881-C5B3-4244-A495-669A3DFB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B96-3C65-4876-B52B-3F273699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74C3C-C08F-448D-8B49-FCA80AD4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78917-A02E-49BA-BAF6-560FD8DD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9893F-EB13-463F-A2CB-82CB6583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6E08D-0DEA-4D57-80CC-58A37507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70ED4-1F66-47F8-B5EC-911D35AA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E9859-9A19-4919-ABF2-1807977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4F9FC-9EF9-4CF8-AA9B-69B0CF5E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58AD9-A754-4F05-9EBC-00152148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12ACD-E83F-45A8-9096-28688A4A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18D42-2353-47C1-91FA-B8DFEF1E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90E-BB7F-419C-9E81-6667AA85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5EE30-0F56-4B47-8244-4CD9199B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11A10-D673-40F7-A237-9480641F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33145-CD1E-484E-B0F8-E81626DE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3D587-23F1-4EF7-82CD-D22BE554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E6CBF-48FE-4C2E-9A62-9FF13898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3C06D-CC59-475E-8E69-371274B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7555A-D70B-4FF3-BD00-067B2C7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891E7-9AC9-4AB6-B763-EA42C3DA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05BF7-F97E-4069-9E05-3EF6E6B0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60A89-4198-4DC1-A96F-26E9E67C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01E-C1AF-4709-93CA-B9951343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15961-A0E7-496A-8DD0-9E5DD984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75E04-DD67-45FD-82CF-0AE10CDA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A610D-BE99-45BC-9771-2973B5AA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7433B-7D13-405A-AD9E-D86194BA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9F67B-9C25-4335-9985-DCEB8B08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D275D-A9B6-454D-A85E-1481FA80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BA9D9-A503-45EF-9C8B-CC8B19A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99F0A-03CC-4DF8-BC2E-9677D69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FC369-B205-4BF4-B6F3-763ECB8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CB3BD-E399-4E42-BFB9-30AB2C41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3726-AB99-42D1-AF0D-65AD0676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503A1-E8E1-4669-96D4-94195EC0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7D053-9657-42E5-996F-5ABE76EA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1C806-D79A-4A49-AE3A-1D4813A6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B3E56-2283-428B-9F2D-654E49A7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2577F-B895-4F7C-8913-D1C661F4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D9893-A190-430E-B2B2-52662591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EE315-57D4-4A12-8688-E541007B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0AE1A-BC4C-40C8-A520-8E711171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E0C0B-B46A-4A49-8B80-ABD1C99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F5DA7-E586-4E76-9A4B-DA02BD37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F8FD-3381-409F-9CEC-4F7CD497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1C606-4967-442D-9D7E-B7B65E9B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CD05B-AD69-4349-A2B3-2045662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DDDDC-E204-4913-A0AC-29EF8164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65B8D-225A-49A2-BEC3-C6C0379B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28EA4-3D8A-435E-A338-1E616BC2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BC069-B01F-4A5F-A28B-297341F4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85658-9D85-409D-9D0E-D56357E5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C0367-10B0-4354-874A-66F08F7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61AA3-2C83-448E-9F5C-8C53FBC0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B94A3-95DF-485E-861B-7A27F5BD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268F-B2A7-4B55-9DC3-0E3ED010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D6E8E-3367-4D24-92CD-C85C3BF2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5F240-9449-4771-A82D-227C42E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1A6EC-EF89-4E92-BE2E-ED2EFD20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A2FDA-2DF6-4479-8DAA-92025113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8412C-5E6A-4EE3-8BA3-36F12238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439FA-2B5D-4C6F-9133-CC1A8E56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A006F-E745-4407-986D-6F4D891B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3B4F6-63F8-4D5E-B8BB-205AA736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968F9-5DF7-4AE4-BB0E-50D03772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879E3-5449-448E-91DD-03896DB8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EB3F-28C2-4782-8FAF-105B751F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2467B-E1DC-4308-80F2-67384820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D6680-0EE1-43ED-884E-22768467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EADAE-7982-414C-B8BA-02D544B2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A56E0-ACFA-44E9-8278-6F7F60A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09C1D-DEE2-4DDC-AC9B-B72ADFEA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426DA-D1EE-4A89-9B6F-2CE3E80A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D01DA-3D18-462A-8C23-C9FC7C12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0270A-221B-4365-99AB-EFAF1F1E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2926D-7391-4E71-A38C-FE4CFF68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DB551-94B5-4660-B5D3-456F3FD2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CD56-46CD-4415-8418-65C383C1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A97D5-55AF-4133-BEB9-F9DAEFE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FE614-3101-4597-8F8B-03B79434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C3460-6217-441E-A2BC-022F403E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3705E-4603-4E3B-971E-4BDB71C0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CD495-ACC0-47B1-8D37-05DBDA73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B86BF-3ACB-45EF-94C7-9254C72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A1D86-EC83-4198-855B-4ECAE26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B4213-C5CB-4141-879C-69815A0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F6FEB-5453-4B15-921D-B97E76A9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DA8D3-9AE9-4072-BAA0-3F46DCE1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543C-356D-4079-B17C-288519E1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5AC78F-FFF6-4493-89CB-29A573B9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E5CBE9-E63A-42A2-A603-5C298C09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92004-9081-4672-A6FF-B7AE7627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B91D1-97AD-4089-BE9D-D96CDBE0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4D67F-0598-4077-9D8C-065FFD3F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2581F-7CC8-45DA-B99A-0D1A076A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BAC77-17BE-4AC1-8C6A-E982946E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0A30D-F333-4D88-9E88-60A9489A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FECCC-737E-4E4C-8184-673BDFC4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703A0-8464-4134-9664-8C4331FC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510F-BEEB-41A3-9B91-9C4800EB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7FAA8-9C13-43CD-AF63-54EFCB58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4D84C-AFE8-47FB-80BB-FB39767B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BB846-3C82-47B6-A21C-AD799538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5E5C3-7A39-4656-A1A1-3198F56F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F06C3-1A63-4877-85C1-ECFA7FD1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4B6A5-81AF-405D-A0DD-9F62CB2A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BECFB-DD4A-484A-9D4D-6E8F5419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62087-1E79-4DED-8040-BBE51887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8C41A-C3CC-41E7-B451-099A3C6C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FF088-D23F-4647-9BE1-366E45CC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5B1-48F7-493F-A2DB-7F3A059A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FA09-3422-49E0-B8F0-6E37550A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FEDC36-A72F-4095-AA20-70CE114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48965-3D0E-48D4-A840-6AEB2A9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6539D-8327-44EE-B43B-8C0871BB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D19B7-D8CD-4588-AC9B-5E90F8B4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773A95-2477-40AF-9BD3-5A4E5BC4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538FD-8CBB-49F0-949B-30E4F8B6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0F296-80FB-4036-9EFB-D5B61437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CC607-8C72-4AE8-B6A9-DD711111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8DC86-162C-439F-A01E-899F337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8E337-F938-4886-BC6E-9851F181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0803-B010-4050-975A-21746DE9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82187-ED5B-4515-B6AB-BEA943E5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8537E2-33B4-4CB5-97AA-8976DFEE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750CFF-C912-4D25-ABAD-D14303F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10159-CB4D-4008-92D5-C9C7422E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4466C-B2B2-4642-A8A4-FB7018BA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F4745-83F1-400E-AD75-85F1B730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EF303E-85D0-42D0-B4A1-BB42CDB1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EF3E77-A682-4B9C-98E4-ABB88452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BC40C-E191-4729-BF82-4B91F112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EF661-78BE-478C-B1C1-B846B1ED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C008-98A4-4D5B-ADA0-4FB11442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11D18-DDDB-47BF-A160-CE2195E5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0B5A5-5352-461C-B520-4657292C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31088-90B4-449A-98B2-F1FBB3E3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15EFD9-009F-4206-8C0B-8F81987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3902A2-38A5-41CF-9106-724CD2C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73A37-08DB-4705-94F7-5A454645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D004D-6C58-4D9D-A750-58036A9F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C1B4F-8F51-464A-B042-C843E05F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1BF9D-CBAF-4FCB-9785-887C3074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DD6B67-2B1D-44AB-82EE-01FD6040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CA5C-C9AA-4113-A912-C4AE38E2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385C7-0488-4B44-83F0-C2BC3959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2A71C-7F05-4094-BA0F-53447D60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C991A-E08F-48B5-AFBA-72D1C18B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89487-10FD-4D9B-9323-F6BAC8D7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80F0BC-F33D-4C7B-90BF-99E57F2C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3371B-40A9-4D8C-84B0-5BF2008A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BB1DE1-AF21-4EE0-9968-FF5E49BD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FCA86-513F-42C2-9637-F6F10234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3B4435-3894-4AF1-9CB3-396FFABA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D931B-291D-49EC-9361-F3AF99C3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6283-1776-45C1-A3D4-49D1A6E7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27474-C1DE-40D0-9551-7712E09A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1603B8-34F9-4A05-B231-F722CE5A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76D00B-42D5-4E00-AA21-A3121B1B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CE5E3-FEA7-4813-9635-6C8C3582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3D434-3C05-44E7-B5C5-2B92B4C0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E222C-0D0A-4812-8034-0A87F6C2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D6615-3CAE-4AE7-8244-9D34F308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7B592D-0CC2-407B-B31B-A4CEA836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6D571-EB92-41F7-B985-32168F2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0641B6-6378-42DD-B3CC-84F9ECA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81AD-0043-4CAF-8F72-44DCBF7B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FC09C4-F094-40BA-89CE-C9E65852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3B7FEE-1C35-4522-BE04-85456984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B86D5-39FB-4071-90E3-27FF1D1D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831B-D494-4FD0-ACAF-78096FE0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19D8-DD12-4C03-A881-84556896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E34C-C55B-4277-B2A7-2E3136A2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4AF9-6151-4675-9192-F28A73A8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0E3-CAE2-46EC-A60D-F39EA86A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FCE8-C071-44E6-94FF-BFBA4888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F427-7F9E-4A54-A5EF-128FBA3A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E203-77E0-4299-AF46-3930A9E4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58E1-2236-4478-BAD1-61A66BDD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AADF-5E3B-4AF9-B593-A9C30A0D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6204-49F6-4296-AB0B-3FE475C6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2885-32E8-4F71-8706-40DB9B25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0DFFD-2600-4A19-A1EA-CD8348A0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0DFD4-8852-4AAF-9C9A-613FD7E9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4A7E-C080-45A1-B587-B4A5D2DA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F03-244B-4D3C-A654-F2639DF2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1E4FE-A85C-486B-B294-BD2C1AE4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0A9E-B6DF-49DE-B91B-EF78A196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EFB4-5EC4-491B-9A46-9B88CF93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DE459-56BB-47C4-9092-A41EEF4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8326-7B8C-45C6-B275-4CAC4B8A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B9D0-F3B0-414E-BB74-BA7A6588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FB67-553B-426C-814B-A7AF419E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AAF9-00D8-43B7-9878-19E72C52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9D90-13EB-4CC4-A773-43B2EAA6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AF606-2FEE-448C-A6F2-669DF284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518-4C70-4017-BC97-C11592F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C4386-43D1-4AB5-8F57-57E26F1C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35C6-6524-4DEC-8330-D1BE9AFB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BE063-2698-441C-AEB9-259F3A05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26530-BC4F-49C5-AAD9-8578D7EF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91DC0-2911-4929-A09C-DFF043B5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D363-8827-48B0-A5BB-7F43DF5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F368C-FC8E-4511-B59C-B3D3AA1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7621B-3599-432D-B605-126CDEA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AE46F-8DD7-4596-8214-C9C2AF58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0A084-E6DB-487F-8B4D-825CB955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C9C-E7BA-44E3-A4E7-FAB14990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4779D-1B2E-4B98-8225-52DB3BA0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1BA7-AC4F-4575-9665-AC18E082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7E0B7-5EE1-424C-8BB7-BE9C9AA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D6D6-520B-44B7-9D7F-7984AE06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962CA-0F6A-4403-B7BF-10791EE5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2B527-AAA4-4548-82A7-94CC7D86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AF2D-BCBA-4615-A885-02CDC8BA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FCF4-C2C2-409B-A8FF-C7519A6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4C466-15A6-4660-9BEE-824C2471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289F0-3D4A-494D-9FB4-44B71FB8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B76-F024-4F71-985D-1FE4A602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56A65-5EA9-47C9-82E0-FB718C56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8EDBB-64ED-4CC0-83A8-749EAC7B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B51D-C3F0-439F-8E3E-32B0972A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2BDA-67B2-45E0-94EB-1C28A04A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6DDC2-ED4D-4E69-8CF1-D7973F4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C1843-D40C-4508-911E-0F70897B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0998F-6104-4954-A767-4B98ECD8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BCB42-66BA-4D21-812B-E67AD116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BCDC-D304-4EF7-9A1A-02056D33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74DE2-93F4-4292-A136-8FEAA0D0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95F-A680-4E53-8FAC-EC9C102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92428-537F-4E1E-ACED-66A0F08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8F99D-91F3-4E19-9FB3-FACF1F6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08AB7-8144-4014-AD6A-A3EF83EE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51B09-125F-41B3-BD7E-1A3C2857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070E3-6103-49C5-99DC-3FEC33D9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98DD7-6A9F-486B-B2DD-DD59FE71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21239-89E5-4D12-8E11-EC62EC4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52948-C94C-40E4-8FD8-8975B05C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EC134-055B-497B-B1B4-1A48F561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B610F-5849-47ED-B890-2C2B0775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826-C285-4605-B7DE-868F5EC2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7836-F464-4E4A-BE7A-B1B501D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AEF16-3658-436F-8863-E510E6EE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D45C1-76A3-45D7-A315-881170D8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BDE13-2278-4CE7-BA03-94FE3666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3EE1-6F3A-4AAC-8663-A94B81F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C4BC2-6FBD-4426-AD55-34BF66A5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950FE-026C-4E32-9C99-254ABDEE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6E3A0-6C2F-4CDC-99A5-0C2FDA54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F1F5A-172A-4E55-B31D-C3841956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5991A-9FB1-4CBD-AC0C-DA50453F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5585-45AB-4DAE-83B4-1DA875710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AAA-6736-46B1-8EE7-9F95F81520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3D17-D539-4D60-8B7D-CFEA064129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D8F0-B10E-4902-97ED-82BEA765E2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B886-E634-46F1-AFF5-687B6AF964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4249-5D6B-4A93-A7EF-3F82170530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20B-76C1-47BD-AC07-236C936044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FDFE-11BA-4B66-BFA4-88128D5ACE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64ED-7B9E-4038-92AD-670EB32F5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23F3-9105-419B-8DEB-33CDF3945A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AF70-4C7E-4D2C-A5B3-092AC2199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3091-02A2-47A4-84F5-D951B9AEAE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628C-90AA-4A60-B5DC-C625E405E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F1CA-C40B-4F09-953F-474C9634D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9DFB-B5A1-4199-8769-32A0141D31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1F05-A967-45D4-862D-6145B6D2B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AB7C-9777-4CD2-9796-840F0E3B3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61EC-97A1-4818-8848-4E7EB3BECE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DB21-2470-40DA-B745-43C077286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09DC-B674-4875-9D07-4217D52C9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6419-2106-4B73-A11D-86F761EA99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8B02-3DCE-4D88-8154-FEE7BB8263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23A8-68CF-4A55-9C89-2127A61EC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F0C0-7002-4C82-956B-5E32F69DC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4E95-257A-4BA9-840D-6E1B7D4B3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507D-C8E2-4449-8A0D-4CE186A366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4214-8316-4C65-A17E-639C0F58B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A0DF-3D39-4A18-AB12-34EE848BA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87E-055C-4151-B3AC-00925FC173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E574-CA05-44C3-AD23-B41E91AF0F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FF12-2A34-4F95-BCF7-0A652B842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27F1-148F-4938-84A0-ADA1A97AE8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551-EB2D-4CE1-AE69-E462E703CC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44DA-65E3-4043-AB38-C69467E4AB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091B-B98F-48AD-BE7E-428638D0BF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E970-356B-4D4B-9AD3-1A1D4C020B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765B-0BEC-4D6F-A20B-0DAADEE404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1A4F-FB1D-45B9-A5C2-678888B338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0276-4CC8-4A3E-9869-61B00969A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BE40-AF64-48D1-A362-3531789E87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771560" y="3038400"/>
            <a:ext cx="56008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214200" y="2185920"/>
            <a:ext cx="8715600" cy="24861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095480" y="37116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2771640" y="3706920"/>
            <a:ext cx="28764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4572000" y="37069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372360" y="369576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8101080" y="369576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33480" y="785880"/>
            <a:ext cx="9077040" cy="5962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601560" y="2127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590400" y="3011400"/>
            <a:ext cx="28764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611280" y="39988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6"/>
          <a:stretch/>
        </p:blipFill>
        <p:spPr>
          <a:xfrm>
            <a:off x="611280" y="493560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19080" y="1585800"/>
            <a:ext cx="9105840" cy="3686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3"/>
          <a:stretch/>
        </p:blipFill>
        <p:spPr>
          <a:xfrm>
            <a:off x="7813800" y="30114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4"/>
          <a:stretch/>
        </p:blipFill>
        <p:spPr>
          <a:xfrm>
            <a:off x="1835280" y="34290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5"/>
          <a:stretch/>
        </p:blipFill>
        <p:spPr>
          <a:xfrm>
            <a:off x="2771640" y="3429000"/>
            <a:ext cx="287640" cy="293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6"/>
          <a:stretch/>
        </p:blipFill>
        <p:spPr>
          <a:xfrm>
            <a:off x="5796000" y="388152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0:4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